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8290"/>
        <c:axId val="49644304"/>
      </c:barChart>
      <c:catAx>
        <c:axId val="8482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44304"/>
        <c:crosses val="autoZero"/>
        <c:auto val="1"/>
        <c:lblAlgn val="ctr"/>
        <c:lblOffset val="100"/>
        <c:noMultiLvlLbl val="0"/>
      </c:catAx>
      <c:valAx>
        <c:axId val="49644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2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BF86-7ED4-4F7F-91E4-601F2F7B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2C76-188C-4214-8DFA-A2D3D3BE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282-F8B3-496F-B495-FA4E5B34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1BF8-9BAF-416E-9444-07CE0572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C07-D2C3-4510-A7A2-EFF8F603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A213-4EE7-4C45-BB9A-A2B9EF66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0C37-4AA6-4B86-A017-D068E0C2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1F98-D7B3-4D15-99CA-A8E65280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C4F4-3368-419A-B9F2-84AF3BAC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CBF-89F5-47C5-81B8-106DF9F9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85D-0FEE-41F3-831E-E12BEAF5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6009-9A38-4C22-AFFC-73EF0AD0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74582-5185-4F37-B04D-733FE5E9E9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