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14018"/>
        <c:axId val="66177806"/>
      </c:barChart>
      <c:catAx>
        <c:axId val="54914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7806"/>
        <c:crosses val="autoZero"/>
        <c:auto val="1"/>
        <c:lblAlgn val="ctr"/>
        <c:lblOffset val="100"/>
        <c:noMultiLvlLbl val="0"/>
      </c:catAx>
      <c:valAx>
        <c:axId val="66177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14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3C2-1536-43A3-9CA7-187B03BF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731-3DD0-4CAE-814E-AF4D98B5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F57-5131-4C35-8D6F-B0CA7356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0BE-7EDF-4A89-B6DA-4BCCC2CF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580-0519-41CB-84BC-3E8E73B5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2D9-DF64-4034-AD88-1F20C4F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437-D075-4464-A4B4-31732510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B81-5FDF-46B7-9691-09705CB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AFE-6D87-4699-AF77-021B80C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F66-2617-445F-99CF-C97679A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95D-843B-4DF2-AAC4-85D9342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B97-36B2-4049-91AB-E8AB85C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3D935-5669-498F-BAEE-4F8AEDC39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