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571713"/>
        <c:axId val="33093879"/>
      </c:barChart>
      <c:catAx>
        <c:axId val="565717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93879"/>
        <c:crosses val="autoZero"/>
        <c:auto val="1"/>
        <c:lblAlgn val="ctr"/>
        <c:lblOffset val="100"/>
        <c:noMultiLvlLbl val="0"/>
      </c:catAx>
      <c:valAx>
        <c:axId val="330938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717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5309-5DAB-4383-B118-70C0AA9A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3830-D572-4672-B343-DEAC1EAB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EC21-C4F1-4A22-8E6C-FD8B4AA9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ADB2-019F-46D2-A833-138AE8D9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3D60-82F2-446A-BE60-535B88FC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80C1-79F1-4071-940E-A5DEEA91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617F-B532-486F-A86B-CF24EC36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CE4E-9EDB-4369-96D8-442558CF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475D-867D-4F23-AE57-E094B5AD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CCED-53C4-4A92-9958-6BF34FAB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7806-5A28-4AB2-B345-2BF9972F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5FE8-5B0C-4688-9DF2-69162FE6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6471C-8C14-4C80-B3C1-8E6CDFE29A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