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108740"/>
        <c:axId val="32536379"/>
      </c:barChart>
      <c:catAx>
        <c:axId val="671087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36379"/>
        <c:crosses val="autoZero"/>
        <c:auto val="1"/>
        <c:lblAlgn val="ctr"/>
        <c:lblOffset val="100"/>
        <c:noMultiLvlLbl val="0"/>
      </c:catAx>
      <c:valAx>
        <c:axId val="32536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087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708-6940-430B-9C86-1152F188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968-074A-4B99-81B9-3DFCA874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B55-9A9E-4717-9A98-90C24569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D89-5859-4199-8B9E-6EEE9EF6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DFA0-AD8A-4834-A042-3D4B4AF3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A4D-0C4C-4DD3-9379-B01C1081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02A-8624-4D55-BB7B-949608FE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EA6-8509-4531-83DA-B0CD6EBA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C82-8415-4AD8-B736-D05345D7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368-5191-4772-B052-402E7A56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790-9D3D-4D68-A6B4-F4A05B0F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502-353B-4BF3-A5D3-1CBFC26F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525FB-785B-4334-8638-17FF32F68E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