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976340"/>
        <c:axId val="50620066"/>
      </c:barChart>
      <c:catAx>
        <c:axId val="71976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20066"/>
        <c:crosses val="autoZero"/>
        <c:auto val="1"/>
        <c:lblAlgn val="ctr"/>
        <c:lblOffset val="100"/>
        <c:noMultiLvlLbl val="0"/>
      </c:catAx>
      <c:valAx>
        <c:axId val="50620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76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79A-8C14-4D9C-9798-D1FAB1AF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C79-7469-4E28-9196-C8B75E93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C54-25FD-4164-A407-7E74569F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605-F525-462F-A3FC-61042135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F40-69D2-49FB-BFE4-8FD94785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87E-5070-4CAF-B3AB-FE331D6F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74E-10DD-46B0-B101-EDAD8D73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48B-DE63-4B8A-85D7-F98A6765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3CF-A032-4923-B485-67BC7DA9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866-F2DA-4A36-ABC1-E2588215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FDB-323B-4AEE-B742-AF593473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C04-8C6B-4513-B12B-EE3B8B75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0D948-3766-4FDA-BDDD-13E8FAEE3A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