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36723"/>
        <c:axId val="98828750"/>
      </c:barChart>
      <c:catAx>
        <c:axId val="32536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28750"/>
        <c:crosses val="autoZero"/>
        <c:auto val="1"/>
        <c:lblAlgn val="ctr"/>
        <c:lblOffset val="100"/>
        <c:noMultiLvlLbl val="0"/>
      </c:catAx>
      <c:valAx>
        <c:axId val="98828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36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336-E48E-4A4E-BC40-7AE4ECFB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E0D-9CDA-4CDD-9592-FA62BB81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9A5B-8EE8-4B81-B8F8-AEDB1689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972-8FA3-4EEC-8489-7BE2F5DB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B47-E6AC-4430-9CB8-7A6F5CC4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FF6-92F8-49F7-99D2-88AEEA04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3A7-9ABE-4867-A02A-ED4B038B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0DA-6D98-4370-B976-D314B0A9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3F0-1F26-49BA-AD3E-3C5A256C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1C3-6727-40A8-8688-402288F9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A3F-3F5B-437A-B339-93277E51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DB6-A9E8-4455-85BA-B764945B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DF1B8-68C6-4808-9637-E2B19D3E15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