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535847"/>
        <c:axId val="21220747"/>
      </c:barChart>
      <c:catAx>
        <c:axId val="955358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20747"/>
        <c:crosses val="autoZero"/>
        <c:auto val="1"/>
        <c:lblAlgn val="ctr"/>
        <c:lblOffset val="100"/>
        <c:noMultiLvlLbl val="0"/>
      </c:catAx>
      <c:valAx>
        <c:axId val="212207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358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908B-D600-4211-841C-853DF8F5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21E3-E113-4580-B52B-FA4C8517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8BDD-2157-4206-8334-31A9ECB9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F7F-8D77-4984-AC1D-D5935602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7C7-50AC-44E7-AE5A-88EBF89A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10C1-FF5F-49AE-AED6-781D270B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2505-6998-49A8-BA0A-26706D8F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792-3CFA-46B7-80D2-3EA47DCF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071A-B564-4A3E-800A-3DC6CCCA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5740-FBB4-4FE7-B327-52BFC22C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E32E-E7EB-473D-8AD7-5DACAD28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55B9-BE38-4810-86B0-69340629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009F8-CED0-4226-B684-A4C4D5848E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