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51270"/>
        <c:axId val="54523615"/>
      </c:barChart>
      <c:catAx>
        <c:axId val="91151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3615"/>
        <c:crosses val="autoZero"/>
        <c:auto val="1"/>
        <c:lblAlgn val="ctr"/>
        <c:lblOffset val="100"/>
        <c:noMultiLvlLbl val="0"/>
      </c:catAx>
      <c:valAx>
        <c:axId val="54523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1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307-36FB-4429-A47A-511F89E9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3C8-D4C7-4B0A-8217-62ACDB1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DEA-0242-479A-AB4F-64E192FC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F3-BCD0-4A7B-99CC-E22C803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275-8452-4558-AC15-12A0743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731-F87A-4C71-BE65-45F52770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3F3-4696-4CB7-966F-A90BABE4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444-FBA5-4ACC-A5AB-CFE5256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599-2F54-44AC-A439-8A741D7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9F3-A40F-47C5-AEB4-4D476D1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D2D-9A67-44FB-9D0C-4A68868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21B-751D-4122-8852-B12BCAD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5ACF9-B956-47BA-9D42-C87C211D1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