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77777"/>
        <c:axId val="79431090"/>
      </c:barChart>
      <c:catAx>
        <c:axId val="76677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1090"/>
        <c:crosses val="autoZero"/>
        <c:auto val="1"/>
        <c:lblAlgn val="ctr"/>
        <c:lblOffset val="100"/>
        <c:noMultiLvlLbl val="0"/>
      </c:catAx>
      <c:valAx>
        <c:axId val="79431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77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418-7772-4210-9FC3-110AD611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E4D-CA1F-436E-A1F7-187A133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B5A-2C67-420A-B72A-7D74750E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287-44B7-4F75-BA73-17E1716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B25-81F6-4B58-9716-15BC7A5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93C-BE1A-4103-8AE8-3D320B1F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2F4-E79F-4337-A128-4962632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85C-C67E-4A3C-9DD0-7D49F93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82B-2548-4575-9554-947C362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B5B-DAAB-467E-9815-33A2EA4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EE0-5F98-4B29-82AD-6C9E7B0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761-289C-43E4-AEA6-8BAC2FB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B6BB5-F2AD-4679-9AD5-033123FE5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