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05"/>
        <c:axId val="26164238"/>
      </c:barChart>
      <c:catAx>
        <c:axId val="27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4238"/>
        <c:crosses val="autoZero"/>
        <c:auto val="1"/>
        <c:lblAlgn val="ctr"/>
        <c:lblOffset val="100"/>
        <c:noMultiLvlLbl val="0"/>
      </c:catAx>
      <c:valAx>
        <c:axId val="26164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A27-74A3-4EF9-928F-396678F0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749-5395-4CFB-9D41-9E6931D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118-066A-4AF7-A452-2BF56DA1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D4A-78EE-4667-A9C0-17B5A4FA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D6D-F8DF-4BA5-9FA9-03A96C8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109-7CAF-42CD-ADCF-55B0A6C6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DA7-2697-40FE-8380-BF82B66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819-A957-4EBF-ABA0-8B7F0EE3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81A-3030-47D9-90B6-4DF6B62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12E-BD7D-4F8F-9C91-4A2DF2D8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1AE-A5D3-4B72-AAC4-B89B779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6CF-ADE6-4433-AC0C-61D51471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BE1D-A673-4118-AC54-C271622F8D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