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91584"/>
        <c:axId val="29998542"/>
      </c:barChart>
      <c:catAx>
        <c:axId val="77791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98542"/>
        <c:crosses val="autoZero"/>
        <c:auto val="1"/>
        <c:lblAlgn val="ctr"/>
        <c:lblOffset val="100"/>
        <c:noMultiLvlLbl val="0"/>
      </c:catAx>
      <c:valAx>
        <c:axId val="29998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91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750-C636-4F24-A70F-55D9F470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B00-A901-4DA1-81B0-3A0F609A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0EA-5C5B-4F7D-BBA3-FCCD9E7C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93A-8BBF-4B96-8E86-509B00E5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862-7ED1-4FE2-ACD9-93864785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814-BC8E-48D2-B6A1-6A2A56A2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7EF-995D-40AD-910A-70297F09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872-4DCA-45CD-8D4F-93FD3B53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CF6-30EF-45F1-8F51-B8EB0297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F4D-6A64-44EF-8A58-E2EA7268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F30-940D-4333-8A9F-66B6CC23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A9B-3CAF-4273-88DF-F7BD1CFC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68948-B34D-4926-80E2-F46CFC38E9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