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22740"/>
        <c:axId val="82664464"/>
      </c:barChart>
      <c:catAx>
        <c:axId val="59022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64464"/>
        <c:crosses val="autoZero"/>
        <c:auto val="1"/>
        <c:lblAlgn val="ctr"/>
        <c:lblOffset val="100"/>
        <c:noMultiLvlLbl val="0"/>
      </c:catAx>
      <c:valAx>
        <c:axId val="82664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2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3B7-BDA8-48B6-9E4E-B937D22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0C9-910A-4AFE-A865-8228D7D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FC4-0022-4439-8AA2-83F6DA6D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C27-C13E-4CDD-8D77-908F1694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E12-813A-43ED-934F-B1C8023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1B3-054D-4CFC-8481-A906115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476-235B-427E-8890-F52326E5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FD3-EB32-4C20-BE7E-EFCCE9CD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C513-F560-43D0-B617-C5903ED6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599-7022-4C2D-B2FD-700A36C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F23-7918-41B6-B289-2B97B71C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B2C-B62B-4364-8920-CEE14DD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78FBD-CCFC-4A09-852E-18355EDDC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