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00075"/>
        <c:axId val="59353323"/>
      </c:barChart>
      <c:catAx>
        <c:axId val="68600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53323"/>
        <c:crosses val="autoZero"/>
        <c:auto val="1"/>
        <c:lblAlgn val="ctr"/>
        <c:lblOffset val="100"/>
        <c:noMultiLvlLbl val="0"/>
      </c:catAx>
      <c:valAx>
        <c:axId val="59353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00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FCE-44BF-41BB-B8EC-2A74A0EC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4A1-D51C-433B-BFF0-15449484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A43-58A8-419D-A28E-9BC5786B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826-17F2-406C-A598-323F4350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E10-AE1F-46D1-9A65-3047649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CD3-70FB-4F7A-9CCE-63F4EA15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B35-4F45-483E-BF8C-7303B679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DA3-1BB2-4736-9187-7B10D57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9D3-1591-421F-A832-A37F672E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C2A-C029-4109-91A7-547C8F6B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03A-EC8C-4BBB-9393-F882EB6A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DF4-999B-42DD-BCE6-F4C67A30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F4230-F5FE-4B77-BC9D-F56C877AA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