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79574"/>
        <c:axId val="86828561"/>
      </c:barChart>
      <c:catAx>
        <c:axId val="48879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8561"/>
        <c:crosses val="autoZero"/>
        <c:auto val="1"/>
        <c:lblAlgn val="ctr"/>
        <c:lblOffset val="100"/>
        <c:noMultiLvlLbl val="0"/>
      </c:catAx>
      <c:valAx>
        <c:axId val="86828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79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8C3-21FA-489B-A7F5-21759085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C8D-6A54-48FC-AD9C-22E2AB9F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523-BC28-497D-A2CC-6D5CDD06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432-0A71-4E48-B6C0-25A8ED57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299-47B3-442F-A66D-4BEBB897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115-2D5D-47E8-9456-DF1B4194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1D8-0068-4D64-A6CC-FFFB3309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36C-A0DA-4D80-B927-21707CF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5C9-BF53-499C-954C-D8BA415A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7AB-49AF-454E-84E8-6356A457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634-FE91-4388-A3A1-6DBA98A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361-AEE8-413A-9DE4-35E1BAB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61127-0897-4D2E-AD52-D8EA6FE6BA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