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60327"/>
        <c:axId val="96827756"/>
      </c:barChart>
      <c:catAx>
        <c:axId val="11760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27756"/>
        <c:crosses val="autoZero"/>
        <c:auto val="1"/>
        <c:lblAlgn val="ctr"/>
        <c:lblOffset val="100"/>
        <c:noMultiLvlLbl val="0"/>
      </c:catAx>
      <c:valAx>
        <c:axId val="96827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60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EE3-48E2-4051-981C-DDC302C2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ECF-D20E-454F-B530-C9858034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2F83-50CC-488C-BC0F-0827C168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459B-E727-4C8D-8BF3-54F71113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B5F6-2208-45CE-A8A9-2E0C6515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2D1-7029-497C-B376-BC43EB97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136E-AFFB-4B16-B643-EDDB75D0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2AC-9440-4A4E-AF84-E2485D91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3A97-FAB7-4EC4-9885-3C1D6D8C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C27-9645-4756-8E2C-EC07BCA1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AC0-6D9B-4DBB-BA81-51DFF85F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6D4-14FF-4094-AB86-F635988A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D5EC0-4680-4457-AC26-969065532F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