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36647"/>
        <c:axId val="72891211"/>
      </c:barChart>
      <c:catAx>
        <c:axId val="633366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891211"/>
        <c:crosses val="autoZero"/>
        <c:auto val="1"/>
        <c:lblAlgn val="ctr"/>
        <c:lblOffset val="100"/>
        <c:noMultiLvlLbl val="0"/>
      </c:catAx>
      <c:valAx>
        <c:axId val="72891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366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BA06-DAE8-4A69-93B1-9A9785049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9CF-3F6C-4B79-95C0-CD41CD215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90D-62D7-43FD-98CE-1920780BB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E080-FC1C-47A9-9F87-A09EF262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3F8-B7D5-4154-BD51-7DD71227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B94A-F6AC-4242-BDAE-9204EB957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23D-D9DB-44DF-B1E0-91C266568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74B-7004-4E04-8DB7-56B703FA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41F-92FC-42CD-95F0-AC8A47FB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DFD3-E6A6-4FE8-9703-C6633A54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41BC-4200-408D-9185-10E992838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DF09-5BC4-4DD1-8725-44A8FE46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0B5AD0-1726-4D7E-B946-BD101B3B4B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