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573164"/>
        <c:axId val="56372026"/>
      </c:barChart>
      <c:catAx>
        <c:axId val="345731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72026"/>
        <c:crosses val="autoZero"/>
        <c:auto val="1"/>
        <c:lblAlgn val="ctr"/>
        <c:lblOffset val="100"/>
        <c:noMultiLvlLbl val="0"/>
      </c:catAx>
      <c:valAx>
        <c:axId val="563720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731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9557-DEBD-4C50-B046-08AE5C3A4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C29F-8B25-49D4-B818-EE65BD77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7A9E-0859-492A-9CEB-9A98B4B80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C5CB-4800-4F0F-BA98-07C7F3293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0E9F-49C3-455D-90BD-67E7F77B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E8F8-9BF8-44BB-95B0-0296A281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862B-0BF7-4C74-804E-878C2257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DD0E-2B3C-4657-83A5-E269AC0F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1C0A-7E0F-463B-98E6-236C0533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4097-8427-4CE0-82FB-AEC0C2AB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6542-D2EE-4A68-8B63-8F576E26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CB7F-F020-4126-ABF3-92710431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53541-4DDE-4C73-B747-05B7A4B014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