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56933"/>
        <c:axId val="36160365"/>
      </c:barChart>
      <c:catAx>
        <c:axId val="38256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60365"/>
        <c:crosses val="autoZero"/>
        <c:auto val="1"/>
        <c:lblAlgn val="ctr"/>
        <c:lblOffset val="100"/>
        <c:noMultiLvlLbl val="0"/>
      </c:catAx>
      <c:valAx>
        <c:axId val="361603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56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AEB-E203-4636-9EBE-112375F6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EE41-F4A5-4F0E-A469-4652B87A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DC70-0EF9-49BC-A913-1BB926B5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D46-DB1A-4F06-B79A-0D0A34E4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C91B-21D9-4DAF-8431-2179805F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09A-5A9C-43CE-BB98-D8D6A1A1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5183-2188-4060-8350-CFB7B7FD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DBB3-9437-4000-B3FB-5D0C6C82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BC9-0841-4B51-8DA2-18F55DC0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C899-B45B-4A0A-B0EC-DC3520B6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8B4-79D8-4F56-86EC-55C93AFF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C550-9774-4341-AE2C-F7376226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FE7E9-C56D-4B71-B9BF-B1AC5EE1B7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