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83598"/>
        <c:axId val="56705725"/>
      </c:barChart>
      <c:catAx>
        <c:axId val="38183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05725"/>
        <c:crosses val="autoZero"/>
        <c:auto val="1"/>
        <c:lblAlgn val="ctr"/>
        <c:lblOffset val="100"/>
        <c:noMultiLvlLbl val="0"/>
      </c:catAx>
      <c:valAx>
        <c:axId val="56705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83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560-775C-4AE1-BB44-D1BB8371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794-BB18-4129-8331-B022359F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B6E-559C-4AD6-A83B-31020C2A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E11-3A25-46C1-A49C-06E01B18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005-F2CD-4700-A7FC-8FBC16A7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907-9299-4268-8607-AF0C1289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53B-BF20-4AB7-8943-B56452FD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65C-3637-4EAB-BD07-A2818B2C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152-C691-45FF-8A9B-15E5F534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79C-E893-419F-B68A-7E43EB6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82C-0A81-455B-A424-94F824A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0F1-587D-4125-A87D-F6F0D056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DFD89-446D-4C3E-B587-6F332E2A4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