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3007"/>
        <c:axId val="81553469"/>
      </c:barChart>
      <c:catAx>
        <c:axId val="97303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3469"/>
        <c:crosses val="autoZero"/>
        <c:auto val="1"/>
        <c:lblAlgn val="ctr"/>
        <c:lblOffset val="100"/>
        <c:noMultiLvlLbl val="0"/>
      </c:catAx>
      <c:valAx>
        <c:axId val="81553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3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573-E7D6-4D1F-A116-E5DD2D36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6AF-4F46-4AD1-BE9D-4ABD45A3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199-5354-40ED-9CB1-5F31E4B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DB7-2B01-4B5D-B6A0-DDA05D51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109-8434-4B70-AA3A-0573BC96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DBE-F972-4FF9-A75E-20600CD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92A-BFA6-495D-8361-5E201D7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C7D-3948-479A-A772-1EC7468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232-4FB0-46CE-A83D-BF6D005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E01-8DBD-421E-8BE0-2E78D57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16A-CBC8-459B-908A-9DC54C7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F8F-AB2A-42C9-ABD0-A4D2672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0A8FF-8452-4933-8373-9F84F112E2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