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8734"/>
        <c:axId val="86256098"/>
      </c:barChart>
      <c:catAx>
        <c:axId val="6728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56098"/>
        <c:crosses val="autoZero"/>
        <c:auto val="1"/>
        <c:lblAlgn val="ctr"/>
        <c:lblOffset val="100"/>
        <c:noMultiLvlLbl val="0"/>
      </c:catAx>
      <c:valAx>
        <c:axId val="86256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8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DFD-4B37-4BA0-9194-334618BA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48A-6BA7-4665-9885-AC493C07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4B3-39A2-4E19-BDE5-D56B30AE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789-8B52-414B-9649-A645E01A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0E4-EC93-4B26-8383-B850EDC9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DF9-A965-49DA-A2CE-DFACA854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7E1-B0B1-4C11-B6B9-58DDA109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545-205E-4330-8E9A-7FF7F895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B23-5475-4D5A-BB95-4D50F98C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71C-6DF9-4F48-9694-D982F5D1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62F-D5CA-44EF-80A6-93F95686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169-D540-4771-923A-38945733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9E2C2-1E05-46BB-9794-E7ADD78568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