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42307"/>
        <c:axId val="73781247"/>
      </c:barChart>
      <c:catAx>
        <c:axId val="87442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1247"/>
        <c:crosses val="autoZero"/>
        <c:auto val="1"/>
        <c:lblAlgn val="ctr"/>
        <c:lblOffset val="100"/>
        <c:noMultiLvlLbl val="0"/>
      </c:catAx>
      <c:valAx>
        <c:axId val="73781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42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744-0FBA-45E8-A70C-044B3C57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3B4-54DA-49EB-8514-6D3C158B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BBB-6622-44A3-81BB-57A95550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BBF-FD43-42BE-95D4-229CD606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D54-CC2A-482E-9E55-1A4995D6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83F-4617-451C-98F6-63721FF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CE4-537C-4CDC-B8FB-A123EE8C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E4A-5D73-4522-ACC2-AB157305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DD8-9A44-42D1-9738-0375165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30F-F881-4398-BCF7-F1C4B6A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138-C5F5-42E8-9AAA-348BBA0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CCF-801A-4C33-A3C6-E5F6183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D7433-8501-4914-B4E9-9A10502C2F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