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49544"/>
        <c:axId val="95880684"/>
      </c:barChart>
      <c:catAx>
        <c:axId val="56249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80684"/>
        <c:crosses val="autoZero"/>
        <c:auto val="1"/>
        <c:lblAlgn val="ctr"/>
        <c:lblOffset val="100"/>
        <c:noMultiLvlLbl val="0"/>
      </c:catAx>
      <c:valAx>
        <c:axId val="95880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49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D26-B459-431D-82A0-3A50FE62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52F-4236-48D4-AC7B-C9C7CB2E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0EF-6BE1-4C25-8DCB-C2574868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89A-072B-41CF-81C5-A2CC013A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E04-4203-4E20-9366-A173C1C7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244-B79A-471D-A3F8-8BFB2ED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E40-AC06-4F8B-951F-B38A41F2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C6A-FEA3-4671-9DD1-A104D334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EB9-2533-4B5D-AC70-7CA2DFFF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949-382C-4FBA-8E4B-59E74AD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639-FA3E-4879-956B-3DD6F842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C88-D88C-42C9-8909-E318DC29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27ADE-A1AF-4320-89A4-22B2B432BB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