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74621"/>
        <c:axId val="59574946"/>
      </c:barChart>
      <c:catAx>
        <c:axId val="418746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74946"/>
        <c:crosses val="autoZero"/>
        <c:auto val="1"/>
        <c:lblAlgn val="ctr"/>
        <c:lblOffset val="100"/>
        <c:noMultiLvlLbl val="0"/>
      </c:catAx>
      <c:valAx>
        <c:axId val="595749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746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D42-8CB3-4F11-A35C-76B243ED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1202-E561-4965-A4B3-FE22DCDF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665-5E43-49C8-9511-3A84FC89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AB0-F347-45F4-A27F-14307F26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94C0-3152-42D9-918C-6B29958A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7F02-E762-4375-A5A1-4E23FB3A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C868-E977-4130-8F32-95B60914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A1B1-7E71-4CF2-9149-D5A3F59D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A851-CBDB-4FF9-AF20-D7B7A6BC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2B1-9219-4FB7-AE11-241BF154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C632-6832-4ADC-813D-4FCA5DF1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E2B8-464D-430B-A7B6-62F51BB9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609B7-CA94-4DAC-9258-000ACBEA8D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