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770338"/>
        <c:axId val="6203922"/>
      </c:barChart>
      <c:catAx>
        <c:axId val="467703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03922"/>
        <c:crosses val="autoZero"/>
        <c:auto val="1"/>
        <c:lblAlgn val="ctr"/>
        <c:lblOffset val="100"/>
        <c:noMultiLvlLbl val="0"/>
      </c:catAx>
      <c:valAx>
        <c:axId val="62039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703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0B72-EB37-4874-A446-6B42DE50F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6DFB-962E-4B55-B5AB-9AC50043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B1C4-D83A-4D03-97EE-E0A854CD4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E03B-227E-4114-BEA6-468DA3455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B636-0787-4C38-8C0A-812A9EDB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F712-7EC1-4045-B80A-6F1AD484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5394-30B0-473B-B92F-F0650A51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732F-EE3B-455A-B9AD-A263482C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9D81-7ED9-4936-9153-BBEF2CB2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ABB0-FB57-4A4F-8B68-44629DA4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18E6-0A95-4F10-8A6C-50B55ACA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E92D-E9C6-426E-8121-A8AF4E16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32818-5B98-4091-8708-7FCA5B2401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