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20876"/>
        <c:axId val="94797352"/>
      </c:barChart>
      <c:catAx>
        <c:axId val="38020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97352"/>
        <c:crosses val="autoZero"/>
        <c:auto val="1"/>
        <c:lblAlgn val="ctr"/>
        <c:lblOffset val="100"/>
        <c:noMultiLvlLbl val="0"/>
      </c:catAx>
      <c:valAx>
        <c:axId val="94797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20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B68-C04B-41DD-9335-DE4830AD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B93-7588-46AC-BC44-3A86F313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F12-8B6A-408B-9602-60B66AF6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DBA-B6A0-4693-8B68-D677AD92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947-4821-4023-AF34-816771C7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20B-BED4-4E62-BC5B-95EFDFE5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A94-BAB7-44EE-AB82-92CF5D11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021-9770-4DC2-9CA7-61957C58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484-627C-4681-89DB-68B73FEB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4EE-9CF9-4BF0-9B7E-56946604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E0E-3095-422A-83FE-60096AF3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399-1A45-4822-9E82-BA3008C6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3CCDA-646F-46A6-951D-987189F034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