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23991"/>
        <c:axId val="83190467"/>
      </c:barChart>
      <c:catAx>
        <c:axId val="19123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90467"/>
        <c:crosses val="autoZero"/>
        <c:auto val="1"/>
        <c:lblAlgn val="ctr"/>
        <c:lblOffset val="100"/>
        <c:noMultiLvlLbl val="0"/>
      </c:catAx>
      <c:valAx>
        <c:axId val="83190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23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A80-0807-40C6-8FCD-57845A56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4C6-417E-4E01-A209-08C2DE4A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184-80A4-4B63-8FBD-BC8E7242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62E-0690-42D1-9F62-199A3998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E41-AA26-4217-AFF9-0A5BD75F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735-EB5A-498B-A098-B03436EF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A1E-43BB-4065-A7A1-81A8913B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7BB-44EA-4EBA-814F-5EA873E2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985-E10D-4831-B3CC-D2CE073A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4C0-09FC-4EA7-9765-4A3B185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D55-E6FB-4390-BE5C-C06C2CF6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BD8-D32D-4F2C-A19D-570D82C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2A914-CB01-4B84-A30C-DC89DD50E8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