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741640"/>
        <c:axId val="45334058"/>
      </c:barChart>
      <c:catAx>
        <c:axId val="56741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34058"/>
        <c:crosses val="autoZero"/>
        <c:auto val="1"/>
        <c:lblAlgn val="ctr"/>
        <c:lblOffset val="100"/>
        <c:noMultiLvlLbl val="0"/>
      </c:catAx>
      <c:valAx>
        <c:axId val="45334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41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59C-63C0-4BB4-B4FC-B95D97C1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D91-BAC3-4FE9-8089-D8CC18A4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2A0-4286-4736-B483-4F9A2DA7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5D7-27DB-4B15-A372-7FD0B6DC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134-4D24-44FA-A259-E6EBBBD3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4C5-DA07-4F6D-B67F-677F238E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E5E-6246-4B17-8DAF-7F1C40AF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841-47B3-47C0-B31B-6FD59EBF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39C-8686-45B9-A507-95E6EC18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6635-D350-4862-BDE2-E0C49088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7FB-820C-4396-AEB3-A228FAE8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F983-1753-4C8D-B783-68BF2FD6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62ECF-101F-4D87-BC91-B14143E9BE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