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4015194"/>
        <c:axId val="55145933"/>
      </c:barChart>
      <c:catAx>
        <c:axId val="9401519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145933"/>
        <c:crosses val="autoZero"/>
        <c:auto val="1"/>
        <c:lblAlgn val="ctr"/>
        <c:lblOffset val="100"/>
        <c:noMultiLvlLbl val="0"/>
      </c:catAx>
      <c:valAx>
        <c:axId val="5514593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01519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F983-C0AE-4834-AA43-0976B7CEB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4439-649A-4443-AF7E-047934F3D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6DB7-DCC2-4E08-8BB6-84C3E337C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75CF-15DE-46DA-AE60-5BA5A6320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5BB3-1ED7-413B-86CB-F131291AC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0C36-D07D-45AB-8F60-73DCAB743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8654-777F-431D-9CDA-1BB3FA489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C07F-1826-492A-BDC3-678F227E7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1730-DDD5-4B70-8341-0D79A6226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4699-3EF5-4122-85FC-76EBC9851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3243-5A3E-4742-BCA7-B943DCB3C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E1AB-CE2C-4D86-AABF-827B3BB7C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68C8EC-B051-4A6C-9541-0FA60E30A9F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