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61471"/>
        <c:axId val="55763486"/>
      </c:barChart>
      <c:catAx>
        <c:axId val="24061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63486"/>
        <c:crosses val="autoZero"/>
        <c:auto val="1"/>
        <c:lblAlgn val="ctr"/>
        <c:lblOffset val="100"/>
        <c:noMultiLvlLbl val="0"/>
      </c:catAx>
      <c:valAx>
        <c:axId val="55763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61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4DF-A45D-42BD-92C2-86705FEA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7A1-4B61-4556-B0A9-D05BA928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21A-472B-476F-B79C-C7D71839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D95-23A4-4748-8B19-618CC9D6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A6E-D403-47B9-8D72-2315A32A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F25-420D-44A6-AAC8-E28ECDCD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409-3901-4BE6-A324-0D630179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F40-62E5-4EF9-920D-67D61E00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BA4-DB5D-4BE5-81CF-562FF343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D39-E705-4A38-8645-9EF5AEC8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033-1EF3-4EEE-A21B-A04DD216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E22-224A-4375-B021-A75484C9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12EB2-20C2-4796-B65E-086F677C04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