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60880"/>
        <c:axId val="64903986"/>
      </c:barChart>
      <c:catAx>
        <c:axId val="74560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03986"/>
        <c:crosses val="autoZero"/>
        <c:auto val="1"/>
        <c:lblAlgn val="ctr"/>
        <c:lblOffset val="100"/>
        <c:noMultiLvlLbl val="0"/>
      </c:catAx>
      <c:valAx>
        <c:axId val="64903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60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FB9-6A11-4E8B-AB5E-36D2B91A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5BD-35C6-48DF-B3B6-9BBAF550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BA4-4068-40FF-A486-DB458F52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D72-E9AD-47F4-8EEE-2DB60BC1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55F-DCD4-4EF6-BD93-129C661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EBAF-C7DC-4947-A83A-661AA8E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F83-E89E-49BB-AAE4-B2BD0B11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DD2-FB35-44F0-B8BD-F80A39E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EBB-CA73-40E8-BF20-CC53A10A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B58-B6FB-40BB-99E6-328A15C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E753-1319-4C80-840F-4F860C15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1F3-C87A-4FA3-B1DE-9BF3B41F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A1C88-A676-4559-B1CB-17D6E2968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