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301791"/>
        <c:axId val="9071787"/>
      </c:barChart>
      <c:catAx>
        <c:axId val="403017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1787"/>
        <c:crosses val="autoZero"/>
        <c:auto val="1"/>
        <c:lblAlgn val="ctr"/>
        <c:lblOffset val="100"/>
        <c:noMultiLvlLbl val="0"/>
      </c:catAx>
      <c:valAx>
        <c:axId val="90717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3017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1403-073A-48E6-A5C1-4A464BBDA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54A3-4B74-4DB3-9F34-BE27C096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D40B-EE6C-4C3E-AF23-62FE94D1C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E586-4F3B-4CEA-9B99-1A01BED43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BE2F-AF15-4254-8533-8C4125DD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7CF3-F443-46FA-944A-96D63065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D213-035B-421E-9CAD-170703FB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7B2B-D851-45DF-8C96-89C98890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273E-9F8E-4E6E-9079-5CD9C2A5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E303-0BEA-4E1F-9F95-EEB76FB6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313F-9B74-40AF-9912-05ABD719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CC86-F7B8-4EBB-87A9-38E3DCFA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3911BC-C0DB-4617-A78B-F6A942BE7B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