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10694"/>
        <c:axId val="34785709"/>
      </c:barChart>
      <c:catAx>
        <c:axId val="94810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5709"/>
        <c:crosses val="autoZero"/>
        <c:auto val="1"/>
        <c:lblAlgn val="ctr"/>
        <c:lblOffset val="100"/>
        <c:noMultiLvlLbl val="0"/>
      </c:catAx>
      <c:valAx>
        <c:axId val="34785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0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EAF-2786-4E32-98E1-F1E7C0F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BE3-0A1C-4C97-A301-31B504E3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78B-BC1A-4451-8C4D-85FBDB17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885-EB3B-4442-BC9E-4B06A55F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69E-2C9A-4272-9C5D-875D360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E0A-F896-4BE9-B651-D8F92C3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545-2B60-44EE-8AD0-6B273125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967-8F83-4E92-B3DC-6EB42272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C48-34A9-40F5-8EFA-A040710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4D9-A04F-48F9-8E08-7BC1EAD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EBF-95D0-4F13-840E-1DED2DB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770-D643-4500-91B1-1BC2B1C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6F284-4770-44CD-B6EC-0E2017FCC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