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00938"/>
        <c:axId val="84977657"/>
      </c:barChart>
      <c:catAx>
        <c:axId val="915009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77657"/>
        <c:crosses val="autoZero"/>
        <c:auto val="1"/>
        <c:lblAlgn val="ctr"/>
        <c:lblOffset val="100"/>
        <c:noMultiLvlLbl val="0"/>
      </c:catAx>
      <c:valAx>
        <c:axId val="849776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009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2D3F-FD60-4290-9F83-B9BD52C2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DC4-77FC-4A22-829C-6E2D4EB6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715E-6402-414F-8B9C-3A47E6E2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9AB-8856-46DF-BF6F-1EE93843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AB8-712A-4A0E-87B1-C4C436B9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4DD8-7AC1-4C09-B8E5-F9B4B443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5D1-15D9-49DF-B39E-8DE80006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A75F-8B0B-4704-8F55-56DA33E5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B18-37E2-42CE-A1C0-A407FC01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5DE-A6C5-45CD-A3D3-249F5FAD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EC8-91D8-46D9-8A54-FC5F3E89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31E8-7BF7-44E9-BB07-EEB04F67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45EB4-AA17-4EFB-97FE-78A7448E46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