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05344"/>
        <c:axId val="24731965"/>
      </c:barChart>
      <c:catAx>
        <c:axId val="46105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31965"/>
        <c:crosses val="autoZero"/>
        <c:auto val="1"/>
        <c:lblAlgn val="ctr"/>
        <c:lblOffset val="100"/>
        <c:noMultiLvlLbl val="0"/>
      </c:catAx>
      <c:valAx>
        <c:axId val="24731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05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A56-E8EF-4401-AA2D-E317CDE8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D7F-1FD0-4AA3-AA55-BD889451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B58-A262-4A15-9F3C-70DB7948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549-B4C3-4455-95E5-1D429C04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EE8-2B74-49B4-8275-E82E6E82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853-A78E-4E80-A5A2-1386844A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9E2-769C-4652-AC45-BDF41938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B6F-E0F7-4384-97BA-A86DD2F6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2CD-B3AB-461A-9ABF-280F5E2F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700-3FA1-4330-9FAE-2D00E449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EE8-7FE5-4C8F-9899-C88DC46E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851-29C5-422F-99EC-50769453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2D6B3-37ED-4F71-9C08-F8D8D26555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