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03017"/>
        <c:axId val="86453526"/>
      </c:barChart>
      <c:catAx>
        <c:axId val="20003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53526"/>
        <c:crosses val="autoZero"/>
        <c:auto val="1"/>
        <c:lblAlgn val="ctr"/>
        <c:lblOffset val="100"/>
        <c:noMultiLvlLbl val="0"/>
      </c:catAx>
      <c:valAx>
        <c:axId val="86453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03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B5C-02B4-417F-8233-07BFB0EC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994-7940-47DF-8681-E3DF99C6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E4E-5092-468D-84D9-45552429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E76-BF38-41EC-802B-11F04295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4E0-6540-499C-BACF-2AEDE7ED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D3B-C57C-4C32-8317-527A6037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309-AEDF-4F98-9260-F9107D41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5D4-63AA-497B-8451-6D717CE4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396-5B8E-4392-870F-5E8AA40D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23B-9287-428A-B4A6-E1FC5F26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D6F-3973-4B23-AA07-D22FA569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A4F-E955-4AC6-B598-A877479E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3AFA3-AA2A-403E-A6F9-EDD6C7A197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