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81067"/>
        <c:axId val="15018773"/>
      </c:barChart>
      <c:catAx>
        <c:axId val="41181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8773"/>
        <c:crosses val="autoZero"/>
        <c:auto val="1"/>
        <c:lblAlgn val="ctr"/>
        <c:lblOffset val="100"/>
        <c:noMultiLvlLbl val="0"/>
      </c:catAx>
      <c:valAx>
        <c:axId val="15018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81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FB0-350A-48F5-9D31-89DB6499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678-543D-4F8C-BA2E-38E1CD71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731-58EB-4304-ADEE-D4912DC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894-C6A2-4C67-AF7E-FE01596F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F24-2CE7-472B-9D99-E27A28B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32E-017E-48B5-B28C-9520D37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C5F-71E2-4D0F-AFB0-80C0AA8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3B4-1833-45CD-BC43-D4D790E3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FA6-F791-4352-85B6-3983602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088-446B-4782-9FB3-298655D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E1F-19CC-4DF5-B503-10BEEBF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89F-2EB7-4F73-8882-82D3D2A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FFB76-9320-4757-9C6C-CF13389D0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